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21A0-8B22-4758-A7F4-703F880AE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EADD-481A-406D-B87A-A72E88ED0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E795-67C9-4E6C-97B7-D5C7779F9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D665-7BC5-4CB0-9AD7-1D61FEF2C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6090-2A97-4E2F-8D79-7160FC7A6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E5E2-0C2B-437C-A856-28D2C089E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85D1-55BC-4AF1-8C52-255FBA4E1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E053-2E18-4EF7-9A0A-0A01F8254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7BD7-771C-4838-A687-C13069E07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9581-460D-45E6-9E3C-6C93F7183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8BF3-6E19-4D99-889C-F836C170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81F8-2914-4163-A962-5666A681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2147F-7363-45BA-83B3-243E3C515B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75 Akú istot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kú radosť má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neho dúfa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dôverou naň zrak upiera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neho dúfa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len na neho sa spolieha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kú istotu, akú radosť m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sa na Ježiša nádejam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ho pomoc m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ie som nikdy s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sa na neho vždy spolieha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neho dúfa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dôverou naň zrak upiera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neho dúfa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len na neho sa spolieha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žiš pokoj svoj rád mi daru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na jeho Slov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rne dbám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y sa raduj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s ním putuje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v ňom priateľa i radcu m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neho dúfa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dôverou naň zrak upiera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neho dúfa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len na neho sa spolieha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mám príčin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by som sa bá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áštitu keď v Ježišovi má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ď ma on má rád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chce pri mne stá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to na neho sa spolieha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14T16:21:09Z</dcterms:modified>
  <cp:revision>20</cp:revision>
  <dc:subject/>
  <dc:title>Je veľký náš Pán, on slávy je Kráľ Nech do všetkých strán  spev vrúcnych znie chvál.</dc:title>
</cp:coreProperties>
</file>